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772400" cy="10058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A65E-6C91-481C-9795-B94B6B00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17A-3230-402B-90A1-32B281D8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543B-EA1B-4C64-84A2-8667D567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166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50440" y="290520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248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166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50440" y="6058080"/>
            <a:ext cx="21272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ACDA-AD1C-4C8D-BD81-6D1F4B97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CCC-FDF9-420B-96D4-C59FFCA1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53B-E17F-46E4-B95F-622245BB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506-C60E-4A80-B64C-18BF24FB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F47-3662-4BB7-9F30-5BF676C3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82480" y="893880"/>
            <a:ext cx="6607440" cy="77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9EF-790F-4DBF-8354-8230C1A8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D714-F0C2-4054-8646-1FC3C238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8280" y="605808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CD6-2358-43B2-A8CC-DF0DD0A9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824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8280" y="2905200"/>
            <a:ext cx="322416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82480" y="6058080"/>
            <a:ext cx="6607440" cy="287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E67-BAD9-4A6E-897C-16E37241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2480" y="893880"/>
            <a:ext cx="66074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2480" y="2905200"/>
            <a:ext cx="6607440" cy="603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8248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5720" y="9164160"/>
            <a:ext cx="246096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570640" y="9164160"/>
            <a:ext cx="1619280" cy="66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DD71-D1E2-4894-BE0D-F5451D581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67360" y="40644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TEP  1-114-M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0160" y="8213760"/>
            <a:ext cx="60678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DQUARTERS, DEPARTMENT OF THE 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RIBUTION RESTRICTION: Approved for public release; distribution is unlimi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32520" y="1868400"/>
            <a:ext cx="6523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R CAVALRY/RECONNAISSA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QUADRON AND TROO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8640" y="1041480"/>
            <a:ext cx="296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 TRAINING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822240" y="3108240"/>
            <a:ext cx="6129360" cy="4578480"/>
            <a:chOff x="822240" y="3108240"/>
            <a:chExt cx="6129360" cy="4578480"/>
          </a:xfrm>
        </p:grpSpPr>
        <p:graphicFrame>
          <p:nvGraphicFramePr>
            <p:cNvPr id="46" name=""/>
            <p:cNvGraphicFramePr/>
            <p:nvPr/>
          </p:nvGraphicFramePr>
          <p:xfrm>
            <a:off x="833400" y="3114720"/>
            <a:ext cx="6107040" cy="457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3400" y="3114720"/>
                      <a:ext cx="6107040" cy="45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822240" y="3108240"/>
              <a:ext cx="6129360" cy="457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15:04:39Z</dcterms:created>
  <dc:creator>CSC-Nichols</dc:creator>
  <dc:description/>
  <dc:language>en-US</dc:language>
  <cp:lastModifiedBy>none</cp:lastModifiedBy>
  <cp:lastPrinted>2000-03-31T15:30:11Z</cp:lastPrinted>
  <dcterms:modified xsi:type="dcterms:W3CDTF">2001-01-12T16:09:49Z</dcterms:modified>
  <cp:revision>10</cp:revision>
  <dc:subject>Air Cavalry/Reconnaissance Squadron and Troop</dc:subject>
  <dc:title>Cover</dc:title>
</cp:coreProperties>
</file>